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C0DB-5471-4B03-9E6F-A6E1864B3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A35D-105D-45BE-A811-ED78C336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7776-42B0-41E4-91F4-C22E0FAFA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64D4-710C-429B-9970-F36097EE3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90D1-36EF-449D-AA67-D6719B2D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94AD-FFDD-468F-9CF0-17E91C09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5876-2290-4603-AE55-7DD90555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EBFE-E005-4714-B78C-011EFB74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CE51-89CF-435B-B210-FA0E51AA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338C-2096-4221-9317-49C29472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DE81-27C3-4E99-B8FA-FD2C52C2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7F03-8715-4E20-9FFE-9546DD87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A83E77-BF15-478B-9A6D-033D65846767}" type="datetime">
              <a:rPr b="0" lang="fi-FI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9CEBDF-31C2-4C74-9D77-AF52ADBA4A04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agram 3" descr=""/>
          <p:cNvPicPr/>
          <p:nvPr/>
        </p:nvPicPr>
        <p:blipFill>
          <a:blip r:embed="rId1"/>
          <a:stretch/>
        </p:blipFill>
        <p:spPr>
          <a:xfrm>
            <a:off x="1695600" y="596880"/>
            <a:ext cx="6192720" cy="525456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6199200" y="3951360"/>
            <a:ext cx="14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Yhtee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kuuluvuu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tu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16:52:44Z</dcterms:created>
  <dc:creator>Helena Rajalinna</dc:creator>
  <dc:description/>
  <dc:language>en-US</dc:language>
  <cp:lastModifiedBy>Helena Rajalinna</cp:lastModifiedBy>
  <dcterms:modified xsi:type="dcterms:W3CDTF">2012-10-09T17:08:23Z</dcterms:modified>
  <cp:revision>5</cp:revision>
  <dc:subject/>
  <dc:title>Slide 1</dc:title>
</cp:coreProperties>
</file>